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wmf" ContentType="image/x-wmf"/>
  <Override PartName="/ppt/media/image27.wmf" ContentType="image/x-wmf"/>
  <Override PartName="/ppt/media/image5.wmf" ContentType="image/x-wmf"/>
  <Override PartName="/ppt/media/image30.wmf" ContentType="image/x-wmf"/>
  <Override PartName="/ppt/media/image28.wmf" ContentType="image/x-wmf"/>
  <Override PartName="/ppt/media/image6.png" ContentType="image/png"/>
  <Override PartName="/ppt/media/image14.wmf" ContentType="image/x-wmf"/>
  <Override PartName="/ppt/media/image12.jpeg" ContentType="image/jpeg"/>
  <Override PartName="/ppt/media/image16.wmf" ContentType="image/x-wmf"/>
  <Override PartName="/ppt/media/image8.png" ContentType="image/png"/>
  <Override PartName="/ppt/media/image7.wmf" ContentType="image/x-wmf"/>
  <Override PartName="/ppt/media/image11.jpeg" ContentType="image/jpeg"/>
  <Override PartName="/ppt/media/image9.wmf" ContentType="image/x-wmf"/>
  <Override PartName="/ppt/media/image10.jpeg" ContentType="image/jpeg"/>
  <Override PartName="/ppt/media/image13.wmf" ContentType="image/x-wmf"/>
  <Override PartName="/ppt/media/image31.wmf" ContentType="image/x-wmf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26.png" ContentType="image/png"/>
  <Override PartName="/ppt/media/image1.jpeg" ContentType="image/jpeg"/>
  <Override PartName="/ppt/media/image15.wmf" ContentType="image/x-wmf"/>
  <Override PartName="/ppt/media/image17.wmf" ContentType="image/x-wmf"/>
  <Override PartName="/ppt/media/image19.png" ContentType="image/png"/>
  <Override PartName="/ppt/media/image21.png" ContentType="image/png"/>
  <Override PartName="/ppt/media/image18.wmf" ContentType="image/x-wmf"/>
  <Override PartName="/ppt/media/image20.png" ContentType="image/png"/>
  <Override PartName="/ppt/media/image22.png" ContentType="image/png"/>
  <Override PartName="/ppt/media/image23.jpeg" ContentType="image/jpeg"/>
  <Override PartName="/ppt/media/image24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</p:sldIdLst>
  <p:sldSz cx="9144000" cy="6858000"/>
  <p:notesSz cx="6983413" cy="101488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768CBC-E69D-40C2-A98F-1A0C5F64AAF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D6868-D15B-4E53-8E7E-9BA1774029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F6496-BD13-4AEC-968F-1663A5F2EA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E09980-E811-4959-B003-F326180A55E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BDFD29-B176-462E-916A-DC10835F6DB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35B675-A039-49EF-B539-C9AAAE3A3DD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C1C0937-2ECA-4264-AEE5-E44211F46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434FDCF-2628-48BE-8390-B65F0FD31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4CBDF6-714A-4577-91F7-EEE7CAC28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0806C5-BFCC-4197-B3E6-681072746D2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B09546B-BEC8-4BBE-AC17-BA9C30F19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421CBC4-E815-402A-A0FF-653BA16B3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101D68-7250-4C85-8534-C09373D2D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20DA27-9627-44C5-89DB-B531572CB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AD0606-BC97-469E-B00D-58136A5DE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0A5224-1646-4865-A0FE-9359FACFB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1B9C21C-0878-4335-AFA1-C1F2ECDAB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E88341-1F5A-4474-BCD0-DC0A2CAC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F8DE3F3-7671-4848-B2C5-FF487D64A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FDEB1B-B95C-417E-826D-FF57B050BE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9648-C1E5-4162-BA22-9CD3F3A8DFF5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75D336-AD96-42E2-8D9F-D1C9C1F7F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508ED7-920D-43C4-8634-01004C7CD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EFB624A-873A-4605-9E34-003493856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40CFBD8-BBD9-447C-8BB6-C0269E3C1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301FD0-E759-4419-A367-EE9ED0FE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F98E489-810A-4C13-86AD-A620A8AD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F4ECBE-EB54-4E3E-ADA6-F1BAAF00B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21208A2-4F95-490A-BB07-6A138C8DD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1AF072-B8FB-4318-A815-2F281E3F0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8CF3BFF-9C6C-49D5-A29A-BAEB87A7A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086BCF-FF91-4BC7-BCF9-1D4622CE51C0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6592E6-E890-4859-B91C-AEEF4C41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4FA6F74-228A-439C-830B-B25BFA023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subTitle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A6DA8DF-44A9-4057-A789-4B6DBB295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15E10C3-6740-4ECB-A96D-3932F55CC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671D077-FEC4-4301-9B57-787F81EA0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9199AF9-2EA4-4AE3-8B60-D278352BC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0" y="-2520"/>
            <a:ext cx="9144000" cy="354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934819E-138D-4F33-B68C-ED9C22ADE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B2835BC-F275-4D0C-8CD7-F62201DEC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E5F9BA5-287E-40CD-A79A-6EF2C4AB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4D1430A-9B21-4367-8FF4-C871402FE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7D7611-9BDC-4089-89C9-9E71149B5F0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6B2E5E95-A726-4533-91B8-2CE56F374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893663C-DA9A-47E7-AA51-D2AED7E18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309168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6183360" y="7617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0" name="PlaceHolder 6"/>
          <p:cNvSpPr>
            <a:spLocks noGrp="1"/>
          </p:cNvSpPr>
          <p:nvPr>
            <p:ph/>
          </p:nvPr>
        </p:nvSpPr>
        <p:spPr>
          <a:xfrm>
            <a:off x="309168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1" name="PlaceHolder 7"/>
          <p:cNvSpPr>
            <a:spLocks noGrp="1"/>
          </p:cNvSpPr>
          <p:nvPr>
            <p:ph/>
          </p:nvPr>
        </p:nvSpPr>
        <p:spPr>
          <a:xfrm>
            <a:off x="6183360" y="3945960"/>
            <a:ext cx="294408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15515D-3AFF-4E8F-9F3D-559A4994A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9459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5815F7-274C-4F1A-8A4C-74D1B769E87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761760"/>
            <a:ext cx="44622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945960"/>
            <a:ext cx="9144000" cy="290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55A88-0795-47CB-9908-5F39B04C5A5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6108480" y="6343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145800" y="63612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DDD16-60AD-4C08-A3AD-055DF006C3B3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438280" cy="73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714760" y="0"/>
            <a:ext cx="6429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K. Long, </a:t>
            </a:r>
            <a:fld id="{7118B118-EBB6-4A47-863F-4A7E982AD437}" type="datetime3">
              <a:rPr b="1" lang="en-US" sz="2800" spc="-1" strike="noStrike">
                <a:solidFill>
                  <a:srgbClr val="ffffcc"/>
                </a:solidFill>
                <a:latin typeface="Times New Roman"/>
              </a:rPr>
              <a:t>July 28, 2026</a:t>
            </a:fld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ff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6600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ff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99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Click to edit the title text format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99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2" marL="1143000" indent="-228600">
              <a:spcBef>
                <a:spcPts val="799"/>
              </a:spcBef>
              <a:buClr>
                <a:srgbClr val="ff6699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3" marL="1600200" indent="-228600">
              <a:spcBef>
                <a:spcPts val="799"/>
              </a:spcBef>
              <a:buClr>
                <a:srgbClr val="99ff99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4" marL="2057400" indent="-228600">
              <a:spcBef>
                <a:spcPts val="799"/>
              </a:spcBef>
              <a:buClr>
                <a:srgbClr val="cc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 type="dt" idx="3"/>
          </p:nvPr>
        </p:nvSpPr>
        <p:spPr>
          <a:xfrm>
            <a:off x="3429000" y="6381360"/>
            <a:ext cx="13716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484B-4255-461E-B7E7-93CD7ECBA1C0}" type="datetime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 type="ftr" idx="4"/>
          </p:nvPr>
        </p:nvSpPr>
        <p:spPr>
          <a:xfrm>
            <a:off x="4876560" y="655272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 type="dt" idx="5"/>
          </p:nvPr>
        </p:nvSpPr>
        <p:spPr>
          <a:xfrm>
            <a:off x="611280" y="6400800"/>
            <a:ext cx="244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050922 ISS Physics Meet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 type="ftr" idx="6"/>
          </p:nvPr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64A22-C80C-4734-90E9-11B325F611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600200" y="304920"/>
            <a:ext cx="72388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0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1600200" y="1371240"/>
            <a:ext cx="72388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Click to edit the outline text format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1" marL="743040" indent="-28584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con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2" marL="11430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Third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3" marL="16002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our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4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Fif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5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ix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  <a:p>
            <a:pPr lvl="6" marL="2057400" indent="-228600">
              <a:spcBef>
                <a:spcPts val="799"/>
              </a:spcBef>
              <a:buClr>
                <a:srgbClr val="ebf5ff"/>
              </a:buClr>
              <a:buFont typeface="ＭＳ Ｐゴシック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bf5ff"/>
                </a:solidFill>
                <a:latin typeface="ＭＳ Ｐゴシック"/>
              </a:rPr>
              <a:t>Seventh Outline Level</a:t>
            </a:r>
            <a:endParaRPr b="0" lang="en-US" sz="3200" spc="-1" strike="noStrike">
              <a:solidFill>
                <a:srgbClr val="ebf5ff"/>
              </a:solidFill>
              <a:latin typeface="ＭＳ Ｐゴシック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dt" idx="8"/>
          </p:nvPr>
        </p:nvSpPr>
        <p:spPr>
          <a:xfrm>
            <a:off x="304812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2FE8-B85E-482A-ABCA-CCBDA376FC8E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ftr" idx="9"/>
          </p:nvPr>
        </p:nvSpPr>
        <p:spPr>
          <a:xfrm>
            <a:off x="4495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0"/>
          </p:nvPr>
        </p:nvSpPr>
        <p:spPr>
          <a:xfrm>
            <a:off x="7543800" y="6248520"/>
            <a:ext cx="12952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17B58-838F-4FE8-9949-2E492F09CE30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914400"/>
            <a:ext cx="3353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ＭＳ Ｐゴシック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ＭＳ Ｐゴシック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dt" idx="11"/>
          </p:nvPr>
        </p:nvSpPr>
        <p:spPr>
          <a:xfrm>
            <a:off x="228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59A2A9-56F6-4942-A1C7-0EA7AA5BF3DE}" type="datetime">
              <a:rPr b="0" lang="ja-JP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26/07/28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12"/>
          </p:nvPr>
        </p:nvSpPr>
        <p:spPr>
          <a:xfrm>
            <a:off x="236196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 type="sldNum" idx="1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4DF8B-D169-4150-9894-6DAF11FAF86D}" type="slidenum">
              <a:rPr b="0" lang="en-US" sz="1000" spc="-1" strike="noStrike">
                <a:solidFill>
                  <a:srgbClr val="ebf5ff"/>
                </a:solidFill>
                <a:latin typeface="ＭＳ Ｐゴシック"/>
                <a:ea typeface="ＭＳ Ｐゴシック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jpeg"/><Relationship Id="rId6" Type="http://schemas.openxmlformats.org/officeDocument/2006/relationships/image" Target="../media/image24.wmf"/><Relationship Id="rId7" Type="http://schemas.openxmlformats.org/officeDocument/2006/relationships/image" Target="../media/image25.png"/><Relationship Id="rId8" Type="http://schemas.openxmlformats.org/officeDocument/2006/relationships/slideLayout" Target="../slideLayouts/slideLayout2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2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2" name="" descr=""/>
          <p:cNvPicPr/>
          <p:nvPr/>
        </p:nvPicPr>
        <p:blipFill>
          <a:blip r:embed="rId1"/>
          <a:srcRect l="2233" t="2712" r="2200" b="4278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2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0" y="730080"/>
            <a:ext cx="6372360" cy="6127920"/>
          </a:xfrm>
          <a:prstGeom prst="rect">
            <a:avLst/>
          </a:prstGeom>
          <a:ln w="0">
            <a:noFill/>
          </a:ln>
        </p:spPr>
      </p:pic>
      <p:sp>
        <p:nvSpPr>
          <p:cNvPr id="307" name=""/>
          <p:cNvSpPr/>
          <p:nvPr/>
        </p:nvSpPr>
        <p:spPr>
          <a:xfrm>
            <a:off x="6372360" y="787320"/>
            <a:ext cx="2771640" cy="61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ncremental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Implication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wait until</a:t>
            </a:r>
            <a:br>
              <a:rPr sz="2800"/>
            </a:b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 know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50021"/>
                </a:solidFill>
                <a:latin typeface="Arial"/>
              </a:rPr>
              <a:t>To refute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cc"/>
                </a:solidFill>
                <a:latin typeface="Arial"/>
              </a:rPr>
              <a:t>Have to show that there exists a facility that gives significant improvement over all </a:t>
            </a:r>
            <a:r>
              <a:rPr b="1" lang="en-US" sz="2800" spc="-1" strike="noStrike">
                <a:solidFill>
                  <a:srgbClr val="ffffcc"/>
                </a:solidFill>
                <a:latin typeface="Symbol"/>
                <a:ea typeface="Symbol"/>
              </a:rPr>
              <a:t></a:t>
            </a:r>
            <a:r>
              <a:rPr b="1" lang="en-US" sz="2800" spc="-1" strike="noStrike" baseline="-25000">
                <a:solidFill>
                  <a:srgbClr val="ffffcc"/>
                </a:solidFill>
                <a:latin typeface="Arial"/>
              </a:rPr>
              <a:t>1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Super-beam and Neutrino Factory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80720" y="889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r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360360" y="1332000"/>
            <a:ext cx="6732720" cy="552600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407280" y="6292800"/>
            <a:ext cx="2474280" cy="4597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only, one sig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eta-beam, reference facility (100/10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7539480" y="144360"/>
            <a:ext cx="14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Benedic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16" name="" descr=""/>
          <p:cNvPicPr/>
          <p:nvPr/>
        </p:nvPicPr>
        <p:blipFill>
          <a:blip r:embed="rId1"/>
          <a:stretch/>
        </p:blipFill>
        <p:spPr>
          <a:xfrm>
            <a:off x="936720" y="1413000"/>
            <a:ext cx="7235640" cy="54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achine assumptions: 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Green-field facility (350/350)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538680" y="179280"/>
            <a:ext cx="2642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66"/>
                </a:solidFill>
                <a:latin typeface="Arial"/>
              </a:rPr>
              <a:t>Lindroos/Hernande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1"/>
          <a:stretch/>
        </p:blipFill>
        <p:spPr>
          <a:xfrm>
            <a:off x="706320" y="1379520"/>
            <a:ext cx="7729560" cy="547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Large scale structure: Kachelreis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Power-density of CMB has significant implications for neutrino mas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Challenges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of neutrino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:</a:t>
            </a:r>
            <a:br>
              <a:rPr sz="3200"/>
            </a:b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King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3" name="" descr=""/>
          <p:cNvPicPr/>
          <p:nvPr/>
        </p:nvPicPr>
        <p:blipFill>
          <a:blip r:embed="rId1"/>
          <a:stretch/>
        </p:blipFill>
        <p:spPr>
          <a:xfrm>
            <a:off x="3059280" y="2349360"/>
            <a:ext cx="5940360" cy="4449960"/>
          </a:xfrm>
          <a:prstGeom prst="rect">
            <a:avLst/>
          </a:prstGeom>
          <a:ln w="0">
            <a:noFill/>
          </a:ln>
        </p:spPr>
      </p:pic>
      <p:sp>
        <p:nvSpPr>
          <p:cNvPr id="324" name=""/>
          <p:cNvSpPr/>
          <p:nvPr/>
        </p:nvSpPr>
        <p:spPr>
          <a:xfrm>
            <a:off x="3132000" y="5805360"/>
            <a:ext cx="3888000" cy="576360"/>
          </a:xfrm>
          <a:prstGeom prst="rect">
            <a:avLst/>
          </a:prstGeom>
          <a:noFill/>
          <a:ln w="381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Impact: … model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ri-bimaximal mixing: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Hypothesi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ccff"/>
                </a:solidFill>
                <a:latin typeface="Arial"/>
              </a:rPr>
              <a:t>Motivated by ‘symmetry’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48320" y="761760"/>
            <a:ext cx="44956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Models: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ff"/>
                </a:solidFill>
                <a:latin typeface="Arial"/>
              </a:rPr>
              <a:t>Links quarks and leptons</a:t>
            </a:r>
            <a:endParaRPr b="1" lang="en-US" sz="20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800600"/>
          </a:xfrm>
          <a:prstGeom prst="rect">
            <a:avLst/>
          </a:prstGeom>
          <a:ln w="0">
            <a:noFill/>
          </a:ln>
        </p:spPr>
      </p:pic>
      <p:grpSp>
        <p:nvGrpSpPr>
          <p:cNvPr id="329" name=""/>
          <p:cNvGrpSpPr/>
          <p:nvPr/>
        </p:nvGrpSpPr>
        <p:grpSpPr>
          <a:xfrm>
            <a:off x="826920" y="5661000"/>
            <a:ext cx="7561440" cy="576360"/>
            <a:chOff x="826920" y="5661000"/>
            <a:chExt cx="7561440" cy="576360"/>
          </a:xfrm>
        </p:grpSpPr>
        <p:sp>
          <p:nvSpPr>
            <p:cNvPr id="330" name=""/>
            <p:cNvSpPr/>
            <p:nvPr/>
          </p:nvSpPr>
          <p:spPr>
            <a:xfrm>
              <a:off x="826920" y="5661000"/>
              <a:ext cx="5040360" cy="576360"/>
            </a:xfrm>
            <a:prstGeom prst="rect">
              <a:avLst/>
            </a:prstGeom>
            <a:noFill/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867280" y="5950080"/>
              <a:ext cx="217440" cy="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6084720" y="5670720"/>
              <a:ext cx="2303640" cy="45972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3300"/>
                  </a:solidFill>
                  <a:latin typeface="Arial"/>
                </a:rPr>
                <a:t>Constraint!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333" name=""/>
          <p:cNvSpPr/>
          <p:nvPr/>
        </p:nvSpPr>
        <p:spPr>
          <a:xfrm>
            <a:off x="8250120" y="14436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King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The Muon Trio: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0" y="609480"/>
            <a:ext cx="8229600" cy="551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pton Flavor Violation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MDM (g-2)          </a:t>
            </a:r>
            <a:r>
              <a:rPr b="0" lang="en-US" sz="2800" spc="-1" strike="noStrike">
                <a:solidFill>
                  <a:srgbClr val="ed032a"/>
                </a:solidFill>
                <a:latin typeface="Comic Sans MS"/>
              </a:rPr>
              <a:t>chiral changing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Muon EDM</a:t>
            </a:r>
            <a:endParaRPr b="0" lang="en-US" sz="28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19200" y="3352680"/>
            <a:ext cx="7707240" cy="768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1876320" y="4248000"/>
            <a:ext cx="4691160" cy="45576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2162160" y="6126120"/>
            <a:ext cx="6307200" cy="461880"/>
          </a:xfrm>
          <a:prstGeom prst="rect">
            <a:avLst/>
          </a:prstGeom>
          <a:ln w="0">
            <a:noFill/>
          </a:ln>
        </p:spPr>
      </p:pic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1590840" y="5165640"/>
            <a:ext cx="7229160" cy="94140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3881520" y="3200400"/>
            <a:ext cx="4728960" cy="1076400"/>
          </a:xfrm>
          <a:prstGeom prst="ellipse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5"/>
          <a:srcRect l="3941" t="6107" r="3941" b="6107"/>
          <a:stretch/>
        </p:blipFill>
        <p:spPr>
          <a:xfrm>
            <a:off x="5181480" y="685800"/>
            <a:ext cx="3432240" cy="210996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6"/>
          <a:srcRect l="0" t="7682" r="0" b="5764"/>
          <a:stretch/>
        </p:blipFill>
        <p:spPr>
          <a:xfrm>
            <a:off x="685800" y="1066680"/>
            <a:ext cx="3048120" cy="165744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7"/>
          <a:stretch/>
        </p:blipFill>
        <p:spPr>
          <a:xfrm>
            <a:off x="5410080" y="917640"/>
            <a:ext cx="3200400" cy="24066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7440" y="92160"/>
            <a:ext cx="194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Lee Robe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155440" y="9216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Ell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250E9923-B0A9-49F3-8E6D-57F95849306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76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0b716"/>
                </a:solidFill>
                <a:latin typeface="Comic Sans MS"/>
              </a:rPr>
              <a:t>General Statements</a:t>
            </a:r>
            <a:endParaRPr b="0" lang="en-US" sz="36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know that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e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neutral lepton flavor viola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xpect Charged lepton flavor violation at some level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enhanced if there is new dynamics at the TeV scale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2" marL="1085760" indent="-217080">
              <a:lnSpc>
                <a:spcPct val="90000"/>
              </a:lnSpc>
              <a:spcBef>
                <a:spcPts val="601"/>
              </a:spcBef>
              <a:buClr>
                <a:srgbClr val="ff6699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99"/>
                </a:solidFill>
                <a:latin typeface="Comic Sans MS"/>
              </a:rPr>
              <a:t>in particular if there is SUSY</a:t>
            </a:r>
            <a:endParaRPr b="0" lang="en-US" sz="2400" spc="-1" strike="noStrike">
              <a:solidFill>
                <a:srgbClr val="ff6699"/>
              </a:solidFill>
              <a:latin typeface="Comic Sans MS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We expect </a:t>
            </a: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P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in the lepton sector    (EDMs as well as </a:t>
            </a:r>
            <a:r>
              <a:rPr b="0" i="1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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  oscillations)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05600" indent="-271440">
              <a:lnSpc>
                <a:spcPct val="90000"/>
              </a:lnSpc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possible connection with cosmology (leptogenesis) 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sp>
        <p:nvSpPr>
          <p:cNvPr id="348" name=""/>
          <p:cNvSpPr/>
          <p:nvPr/>
        </p:nvSpPr>
        <p:spPr>
          <a:xfrm>
            <a:off x="2971800" y="4572000"/>
            <a:ext cx="609480" cy="380880"/>
          </a:xfrm>
          <a:prstGeom prst="line">
            <a:avLst/>
          </a:prstGeom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E55215A1-9B7F-4B8B-ACEE-6086D81ED8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At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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, also have a </a:t>
            </a:r>
            <a:r>
              <a:rPr b="0" i="1" lang="en-US" sz="3200" spc="-1" strike="noStrike">
                <a:solidFill>
                  <a:srgbClr val="f0b716"/>
                </a:solidFill>
                <a:latin typeface="Symbol"/>
                <a:ea typeface="Symbol"/>
              </a:rPr>
              <a:t></a:t>
            </a:r>
            <a:r>
              <a:rPr b="0" lang="en-US" sz="3200" spc="-1" strike="noStrike">
                <a:solidFill>
                  <a:srgbClr val="f0b716"/>
                </a:solidFill>
                <a:latin typeface="Comic Sans MS"/>
              </a:rPr>
              <a:t>-factory </a:t>
            </a:r>
            <a:endParaRPr b="0" lang="en-US" sz="3200" spc="-1" strike="noStrike">
              <a:solidFill>
                <a:srgbClr val="f0b716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3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his flux will permit:</a:t>
            </a:r>
            <a:endParaRPr b="0" lang="en-US" sz="3200" spc="-1" strike="noStrike">
              <a:solidFill>
                <a:srgbClr val="ffff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A dedicated search for a permanent muon EDM ( P, T )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24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e cm and beyond.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66cc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Search for muon Flavor Violation to below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8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to 10</a:t>
            </a:r>
            <a:r>
              <a:rPr b="0" lang="en-US" sz="2800" spc="-1" strike="noStrike" baseline="30000">
                <a:solidFill>
                  <a:srgbClr val="66ccff"/>
                </a:solidFill>
                <a:latin typeface="Comic Sans MS"/>
              </a:rPr>
              <a:t>-19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 level, or if </a:t>
            </a:r>
            <a:r>
              <a:rPr b="0" i="1" lang="en-US" sz="2800" spc="-1" strike="noStrike">
                <a:solidFill>
                  <a:srgbClr val="66ccff"/>
                </a:solidFill>
                <a:latin typeface="Symbol"/>
                <a:ea typeface="Symbol"/>
              </a:rPr>
              <a:t></a:t>
            </a:r>
            <a:r>
              <a:rPr b="0" lang="en-US" sz="2800" spc="-1" strike="noStrike">
                <a:solidFill>
                  <a:srgbClr val="66ccff"/>
                </a:solidFill>
                <a:latin typeface="Comic Sans MS"/>
              </a:rPr>
              <a:t>FV is observed, it will be possible to make detailed studies of the reaction</a:t>
            </a:r>
            <a:endParaRPr b="0" lang="en-US" sz="2800" spc="-1" strike="noStrike">
              <a:solidFill>
                <a:srgbClr val="66ccff"/>
              </a:solidFill>
              <a:latin typeface="Comic Sans MS"/>
            </a:endParaRPr>
          </a:p>
        </p:txBody>
      </p:sp>
      <p:pic>
        <p:nvPicPr>
          <p:cNvPr id="351" name="" descr=""/>
          <p:cNvPicPr/>
          <p:nvPr/>
        </p:nvPicPr>
        <p:blipFill>
          <a:blip r:embed="rId1"/>
          <a:stretch/>
        </p:blipFill>
        <p:spPr>
          <a:xfrm>
            <a:off x="1600200" y="5486400"/>
            <a:ext cx="5791320" cy="482760"/>
          </a:xfrm>
          <a:prstGeom prst="rect">
            <a:avLst/>
          </a:prstGeom>
          <a:ln w="0">
            <a:noFill/>
          </a:ln>
        </p:spPr>
      </p:pic>
      <p:sp>
        <p:nvSpPr>
          <p:cNvPr id="352" name=""/>
          <p:cNvSpPr/>
          <p:nvPr/>
        </p:nvSpPr>
        <p:spPr>
          <a:xfrm flipH="1">
            <a:off x="2819520" y="236232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H="1">
            <a:off x="2346480" y="2351160"/>
            <a:ext cx="304560" cy="304560"/>
          </a:xfrm>
          <a:prstGeom prst="line">
            <a:avLst/>
          </a:prstGeom>
          <a:ln w="3492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fld id="{8CAAFB5F-C7EB-4227-BB5C-82AF120132B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First steps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owards physics chapter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998960" cy="6858000"/>
          </a:xfrm>
          <a:prstGeom prst="rect">
            <a:avLst/>
          </a:prstGeom>
          <a:ln w="0">
            <a:noFill/>
          </a:ln>
        </p:spPr>
      </p:pic>
      <p:pic>
        <p:nvPicPr>
          <p:cNvPr id="356" name="" descr=""/>
          <p:cNvPicPr/>
          <p:nvPr/>
        </p:nvPicPr>
        <p:blipFill>
          <a:blip r:embed="rId2"/>
          <a:stretch/>
        </p:blipFill>
        <p:spPr>
          <a:xfrm>
            <a:off x="2124000" y="0"/>
            <a:ext cx="5000760" cy="6858000"/>
          </a:xfrm>
          <a:prstGeom prst="rect">
            <a:avLst/>
          </a:prstGeom>
          <a:ln w="0">
            <a:noFill/>
          </a:ln>
        </p:spPr>
      </p:pic>
      <p:grpSp>
        <p:nvGrpSpPr>
          <p:cNvPr id="357" name=""/>
          <p:cNvGrpSpPr/>
          <p:nvPr/>
        </p:nvGrpSpPr>
        <p:grpSpPr>
          <a:xfrm>
            <a:off x="4140360" y="0"/>
            <a:ext cx="5003640" cy="6858000"/>
            <a:chOff x="4140360" y="0"/>
            <a:chExt cx="5003640" cy="6858000"/>
          </a:xfrm>
        </p:grpSpPr>
        <p:sp>
          <p:nvSpPr>
            <p:cNvPr id="358" name=""/>
            <p:cNvSpPr/>
            <p:nvPr/>
          </p:nvSpPr>
          <p:spPr>
            <a:xfrm>
              <a:off x="4140360" y="3068640"/>
              <a:ext cx="5003640" cy="3789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359" name="" descr=""/>
            <p:cNvPicPr/>
            <p:nvPr/>
          </p:nvPicPr>
          <p:blipFill>
            <a:blip r:embed="rId3"/>
            <a:stretch/>
          </p:blipFill>
          <p:spPr>
            <a:xfrm>
              <a:off x="4140360" y="0"/>
              <a:ext cx="5003640" cy="4334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04560" y="1447560"/>
            <a:ext cx="8458200" cy="16002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hysics working 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1116000" y="3492000"/>
            <a:ext cx="76723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(not quite a) summary and plan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60213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with grateful thanks to PhysWG speakers and those wh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ook part in the discuss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5580000" y="4873680"/>
            <a:ext cx="3564000" cy="198432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50000">
                <a:srgbClr val="996600"/>
              </a:gs>
              <a:gs pos="100000">
                <a:srgbClr val="00006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712800"/>
            <a:ext cx="5576760" cy="6145200"/>
          </a:xfrm>
          <a:prstGeom prst="rect">
            <a:avLst/>
          </a:prstGeom>
          <a:ln w="0">
            <a:noFill/>
          </a:ln>
        </p:spPr>
      </p:pic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Propose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580000" y="761760"/>
            <a:ext cx="356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Series of w/ss to focus work and to share tools and idea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Each w/s documents progress and identifies next step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Need to specify goals for first workshop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is week!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0" y="2276640"/>
            <a:ext cx="5580000" cy="47037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Plan to run as a ‘drop in centre’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Recognises that not all can</a:t>
            </a:r>
            <a:br>
              <a:rPr sz="2400"/>
            </a:b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come for all the days … though great if you c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eekend included for those that it helps with tra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orking meeting – emphasis on discussion and </a:t>
            </a:r>
            <a:r>
              <a:rPr b="1" i="1" lang="en-US" sz="2400" spc="-1" strike="noStrike">
                <a:solidFill>
                  <a:srgbClr val="ffffcc"/>
                </a:solidFill>
                <a:latin typeface="Arial"/>
              </a:rPr>
              <a:t>WORK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266760" indent="-26676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Specific goals now defined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990720" indent="-366840">
              <a:lnSpc>
                <a:spcPct val="100000"/>
              </a:lnSpc>
              <a:spcBef>
                <a:spcPts val="1500"/>
              </a:spcBef>
              <a:buClr>
                <a:srgbClr val="ffff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WWW page to be updat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mmon tools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Enhance efficiency of those new to calculating sensitivities to oscillation parameters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rcRect l="8078" t="2397" r="8167" b="1871"/>
          <a:stretch/>
        </p:blipFill>
        <p:spPr>
          <a:xfrm>
            <a:off x="1835280" y="2354400"/>
            <a:ext cx="5257800" cy="45036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8046360" y="144360"/>
            <a:ext cx="106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ub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oretical subgroup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Main task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What is scientific gain of precision measurements of neutrino properties?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rigin of universe … c.f.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Origin of mass for LH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Super-symmetry – the last space-time symmetry – for ILC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ff00"/>
                </a:solidFill>
                <a:latin typeface="Arial"/>
              </a:rPr>
              <a:t>Argument presented by Pilar</a:t>
            </a:r>
            <a:endParaRPr b="1" lang="en-US" sz="2000" spc="-1" strike="noStrike">
              <a:solidFill>
                <a:srgbClr val="00ff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Job in preparation for w/s #1: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est to see if ‘origin of universe’ argument could be developed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Steve King (with KL as naïve follower)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Development of mass-scale arguments 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Andre de Gouvea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291960" y="907920"/>
            <a:ext cx="763596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Marlett"/>
                <a:ea typeface="Marlett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nsitivity to unitarity and physics beyond S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108000" y="1628640"/>
            <a:ext cx="8346960" cy="9471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tandard scenario assumes three flavors and vanishing off-diagonal elements of the matter term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250920" y="5516640"/>
            <a:ext cx="8346960" cy="52056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1: existence of sterile neutrino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250920" y="6159600"/>
            <a:ext cx="8346960" cy="642600"/>
          </a:xfrm>
          <a:prstGeom prst="rect">
            <a:avLst/>
          </a:prstGeom>
          <a:solidFill>
            <a:srgbClr val="ffffcc"/>
          </a:solidFill>
          <a:ln cap="sq" w="1260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ccff"/>
                </a:solidFill>
                <a:latin typeface="Wingdings 3"/>
                <a:ea typeface="Wingdings 3"/>
              </a:rPr>
              <a:t>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cenario 2: existence of flavor changing 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in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179280" y="2781360"/>
                <a:ext cx="5413320" cy="192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E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sSup>
                      <m:e>
                        <m:r>
                          <m:t xml:space="preserve">U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-1</m:t>
                        </m:r>
                      </m:sup>
                    </m:sSup>
                    <m:r>
                      <m:t xml:space="preserve">+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A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76" name=""/>
          <p:cNvSpPr/>
          <p:nvPr/>
        </p:nvSpPr>
        <p:spPr>
          <a:xfrm>
            <a:off x="250920" y="4869000"/>
            <a:ext cx="6553080" cy="52056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ossible source of violation of unitarit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0" y="-11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66"/>
                </a:solidFill>
                <a:latin typeface="ＭＳ Ｐゴシック"/>
                <a:ea typeface="ＭＳ Ｐゴシック"/>
              </a:rPr>
              <a:t>Phenomenological subgroup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814880" y="115920"/>
            <a:ext cx="126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Yasud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6176520" y="3378240"/>
            <a:ext cx="2856960" cy="825480"/>
          </a:xfrm>
          <a:prstGeom prst="rect">
            <a:avLst/>
          </a:prstGeom>
          <a:noFill/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Precision requir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9900"/>
                </a:solidFill>
                <a:latin typeface="Arial"/>
              </a:rPr>
              <a:t>to test scenarios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8"/>
          </p:nvPr>
        </p:nvSpPr>
        <p:spPr/>
        <p:txBody>
          <a:bodyPr/>
          <a:p>
            <a:fld id="{B053FB5A-AC54-40F3-A69C-C2B7F85C29E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66"/>
                </a:solidFill>
                <a:latin typeface="Arial"/>
              </a:rPr>
              <a:t>Pheno/Experimental subgrou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91440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Calculate sensitivity in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</a:t>
            </a:r>
            <a:r>
              <a:rPr b="1" lang="en-GB" sz="1800" spc="-1" strike="noStrike" baseline="-25000">
                <a:solidFill>
                  <a:srgbClr val="ffff99"/>
                </a:solidFill>
                <a:latin typeface="Arial"/>
              </a:rPr>
              <a:t>13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- </a:t>
            </a:r>
            <a:r>
              <a:rPr b="1" lang="en-GB" sz="1800" spc="-1" strike="noStrike">
                <a:solidFill>
                  <a:srgbClr val="ffff99"/>
                </a:solidFill>
                <a:latin typeface="Symbol"/>
                <a:ea typeface="Symbol"/>
              </a:rPr>
              <a:t>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 plane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superbeams SPL, T2K, NOvA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btain BNL info for w/s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beta-beams (100/100), (350/350)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aselines: 130, 7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Two reference neutrino factories (20, 50) – assume store both charges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Baselines 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Define reference 1000, 3000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… 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but hope that some optimisation can be done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ffff99"/>
                </a:solidFill>
                <a:latin typeface="Arial"/>
              </a:rPr>
              <a:t>AEDL for options to be posted on WWW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Action: Patrick Huber/KL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Comparison of results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GLOBES: Patrick Huber, Paul Harrison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Valencia code’: Pilar Hernandez (et al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From ‘Madrid code’: Stefano Rigolin (et al.)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What: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Perform fits for small number of assumed parameter set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3" marL="1600200" indent="-22860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ff00"/>
                </a:solidFill>
                <a:latin typeface="Arial"/>
              </a:rPr>
              <a:t>Comment on discrete degeneracies</a:t>
            </a:r>
            <a:endParaRPr b="1" lang="en-US" sz="1200" spc="-1" strike="noStrike">
              <a:solidFill>
                <a:srgbClr val="00ff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Goal is to establish a baseline for development of comparison of facilities alone and in combination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9900"/>
                </a:solidFill>
                <a:latin typeface="Arial"/>
              </a:rPr>
              <a:t>Need i/p from detector group … detector performance assumptions:</a:t>
            </a:r>
            <a:endParaRPr b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cc"/>
                </a:solidFill>
                <a:latin typeface="Arial"/>
              </a:rPr>
              <a:t>Suggest:</a:t>
            </a:r>
            <a:endParaRPr b="1" lang="en-US" sz="16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Iron Cal: MINOS + high granularity - for NF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LAr?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H</a:t>
            </a:r>
            <a:r>
              <a:rPr b="1" lang="en-GB" sz="1400" spc="-1" strike="noStrike" baseline="-25000">
                <a:solidFill>
                  <a:srgbClr val="ffccff"/>
                </a:solidFill>
                <a:latin typeface="Arial"/>
              </a:rPr>
              <a:t>2</a:t>
            </a:r>
            <a:r>
              <a:rPr b="1" lang="en-GB" sz="1400" spc="-1" strike="noStrike">
                <a:solidFill>
                  <a:srgbClr val="ffccff"/>
                </a:solidFill>
                <a:latin typeface="Arial"/>
              </a:rPr>
              <a:t>O </a:t>
            </a: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Ç – for sb and low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Scint – for high gamma beta beam for 14Nov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349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ccff"/>
                </a:solidFill>
                <a:latin typeface="Arial"/>
                <a:ea typeface="Arial"/>
              </a:rPr>
              <a:t>Emmulsion</a:t>
            </a:r>
            <a:endParaRPr b="1" lang="en-US" sz="1400" spc="-1" strike="noStrike">
              <a:solidFill>
                <a:srgbClr val="ffcc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A challenging programme …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0" y="2420640"/>
            <a:ext cx="9144000" cy="44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but at least we’ll have started!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tents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0" y="907920"/>
            <a:ext cx="914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ntroduction and motivation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The most difficult task (!)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hat to assume about the machine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Impact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Muon physic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Work to do in preparation for first phys. grp. w/s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Theoret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henomenologic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60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Experimental subgroup</a:t>
            </a:r>
            <a:endParaRPr b="1" lang="en-US" sz="2400" spc="-1" strike="noStrike">
              <a:solidFill>
                <a:srgbClr val="ffffcc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99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0" y="-2160"/>
            <a:ext cx="9144000" cy="7034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The neutrino standard model?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 active flavour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Three, Dirac, mass eigenstates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Neutrino mass scal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Mass hierarchy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cc"/>
                </a:solidFill>
                <a:latin typeface="Arial"/>
              </a:rPr>
              <a:t>MNS mixing matrix</a:t>
            </a: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Three mixing angles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99c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ccff"/>
                </a:solidFill>
                <a:latin typeface="Arial"/>
              </a:rPr>
              <a:t>One CP phase</a:t>
            </a:r>
            <a:endParaRPr b="1" lang="en-US" sz="2400" spc="-1" strike="noStrike">
              <a:solidFill>
                <a:srgbClr val="ffcc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Physics beyond </a:t>
            </a:r>
            <a:r>
              <a:rPr b="1" i="1" lang="en-GB" sz="3200" spc="-1" strike="noStrike">
                <a:solidFill>
                  <a:srgbClr val="ffff99"/>
                </a:solidFill>
                <a:latin typeface="Arial"/>
              </a:rPr>
              <a:t>The</a:t>
            </a:r>
            <a:r>
              <a:rPr b="1" lang="en-GB" sz="3200" spc="-1" strike="noStrike">
                <a:solidFill>
                  <a:srgbClr val="ffff99"/>
                </a:solidFill>
                <a:latin typeface="Arial"/>
              </a:rPr>
              <a:t> Standard Model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93600" y="3716280"/>
                <a:ext cx="901548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e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μ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τ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2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t xml:space="preserve">iδ</m:t>
                                  </m:r>
                                </m:sup>
                              </m:sSup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  <m:sSup>
                                <m:e>
                                  <m:r>
                                    <m:t xml:space="preserve">e</m:t>
                                  </m:r>
                                </m:e>
                                <m:sup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-i</m:t>
                                  </m:r>
                                  <m:r>
                                    <m:t xml:space="preserve">δ</m:t>
                                  </m:r>
                                </m:sup>
                              </m:sSup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−</m:t>
                              </m:r>
                              <m:sSub>
                                <m:e>
                                  <m:r>
                                    <m:t xml:space="preserve">s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sSub>
                                <m:e>
                                  <m:r>
                                    <m:t xml:space="preserve">c</m:t>
                                  </m:r>
                                </m:e>
                                <m:sub>
                                  <m:r>
                                    <m:rPr>
                                      <m:lit/>
                                      <m:nor/>
                                    </m:rPr>
                                    <m:t xml:space="preserve">12</m:t>
                                  </m:r>
                                </m:sub>
                              </m:sSub>
                            </m:e>
                            <m:e>
                              <m:r>
                                <m:t xml:space="preserve">0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0</m:t>
                              </m:r>
                            </m:e>
                            <m:e>
                              <m:r>
                                <m:t xml:space="preserve">1</m:t>
                              </m:r>
                            </m:e>
                          </m:mr>
                        </m:m>
                      </m:e>
                    </m:d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2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ν</m:t>
                                  </m:r>
                                </m:e>
                                <m:sub>
                                  <m:r>
                                    <m:t xml:space="preserve">3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pic>
        <p:nvPicPr>
          <p:cNvPr id="251" name="" descr=""/>
          <p:cNvPicPr/>
          <p:nvPr/>
        </p:nvPicPr>
        <p:blipFill>
          <a:blip r:embed="rId1"/>
          <a:stretch/>
        </p:blipFill>
        <p:spPr>
          <a:xfrm>
            <a:off x="6372360" y="1276200"/>
            <a:ext cx="2771640" cy="21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0" y="761760"/>
            <a:ext cx="363528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The masses are so different, that must be a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ff33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Neutrino mixing so different from quark mixing, that must be clue …</a:t>
            </a:r>
            <a:endParaRPr b="1" lang="en-US" sz="32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3635280" y="781200"/>
            <a:ext cx="5508720" cy="27190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2"/>
          <a:srcRect l="0" t="0" r="1346" b="0"/>
          <a:stretch/>
        </p:blipFill>
        <p:spPr>
          <a:xfrm>
            <a:off x="3568680" y="4581360"/>
            <a:ext cx="5575320" cy="161460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5588280" y="141120"/>
            <a:ext cx="346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66"/>
                </a:solidFill>
                <a:latin typeface="Arial"/>
              </a:rPr>
              <a:t>de Gouvea, 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3992760"/>
          </a:xfrm>
          <a:prstGeom prst="rect">
            <a:avLst/>
          </a:prstGeom>
          <a:ln w="0">
            <a:noFill/>
          </a:ln>
        </p:spPr>
      </p:pic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the era of sensitivity …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0" y="2611440"/>
            <a:ext cx="9144000" cy="4249080"/>
            <a:chOff x="0" y="2611440"/>
            <a:chExt cx="9144000" cy="4249080"/>
          </a:xfrm>
        </p:grpSpPr>
        <p:pic>
          <p:nvPicPr>
            <p:cNvPr id="260" name="" descr=""/>
            <p:cNvPicPr/>
            <p:nvPr/>
          </p:nvPicPr>
          <p:blipFill>
            <a:blip r:embed="rId2"/>
            <a:stretch/>
          </p:blipFill>
          <p:spPr>
            <a:xfrm>
              <a:off x="0" y="2611440"/>
              <a:ext cx="9144000" cy="424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1" name=""/>
            <p:cNvSpPr/>
            <p:nvPr/>
          </p:nvSpPr>
          <p:spPr>
            <a:xfrm>
              <a:off x="1440" y="6400800"/>
              <a:ext cx="1738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000066"/>
                  </a:solidFill>
                  <a:latin typeface="Arial"/>
                </a:rPr>
                <a:t>de Gouvea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3911760" y="741240"/>
            <a:ext cx="173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Hernande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3" name=""/>
          <p:cNvGrpSpPr/>
          <p:nvPr/>
        </p:nvGrpSpPr>
        <p:grpSpPr>
          <a:xfrm>
            <a:off x="2556000" y="3429000"/>
            <a:ext cx="4000320" cy="3429000"/>
            <a:chOff x="2556000" y="3429000"/>
            <a:chExt cx="4000320" cy="3429000"/>
          </a:xfrm>
        </p:grpSpPr>
        <p:sp>
          <p:nvSpPr>
            <p:cNvPr id="264" name=""/>
            <p:cNvSpPr/>
            <p:nvPr/>
          </p:nvSpPr>
          <p:spPr>
            <a:xfrm>
              <a:off x="2556000" y="3429000"/>
              <a:ext cx="4000320" cy="3429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pic>
          <p:nvPicPr>
            <p:cNvPr id="265" name="" descr=""/>
            <p:cNvPicPr/>
            <p:nvPr/>
          </p:nvPicPr>
          <p:blipFill>
            <a:blip r:embed="rId1"/>
            <a:srcRect l="0" t="7231" r="7741" b="2337"/>
            <a:stretch/>
          </p:blipFill>
          <p:spPr>
            <a:xfrm>
              <a:off x="2556000" y="3470400"/>
              <a:ext cx="3456000" cy="338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6" name=""/>
            <p:cNvSpPr/>
            <p:nvPr/>
          </p:nvSpPr>
          <p:spPr>
            <a:xfrm>
              <a:off x="4358160" y="3645000"/>
              <a:ext cx="1500480" cy="1191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Neutrino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Factory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Symbol"/>
                  <a:ea typeface="Symbol"/>
                </a:rPr>
                <a:t>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99ff"/>
                  </a:solidFill>
                  <a:latin typeface="Arial"/>
                </a:rPr>
                <a:t>Super-beam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rot="5400000">
              <a:off x="4797360" y="4930560"/>
              <a:ext cx="293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66"/>
                  </a:solidFill>
                  <a:latin typeface="Arial"/>
                </a:rPr>
                <a:t>O.Mena (hep-ph/0503097)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Motivation: 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… and precision</a:t>
            </a:r>
            <a:endParaRPr b="1" lang="en-US" sz="4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0" y="765000"/>
            <a:ext cx="9144000" cy="266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2"/>
          <a:stretch/>
        </p:blipFill>
        <p:spPr>
          <a:xfrm>
            <a:off x="0" y="1254240"/>
            <a:ext cx="9144000" cy="217476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535720" y="836640"/>
            <a:ext cx="357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66"/>
                </a:solidFill>
                <a:latin typeface="Arial"/>
              </a:rPr>
              <a:t>Burguet et al. (hep-ph/0503021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240" y="765000"/>
            <a:ext cx="17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ff"/>
                </a:solidFill>
                <a:latin typeface="Arial"/>
              </a:rPr>
              <a:t>Beta-bea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438360"/>
            <a:ext cx="9144000" cy="0"/>
          </a:xfrm>
          <a:prstGeom prst="line">
            <a:avLst/>
          </a:prstGeom>
          <a:ln w="76320">
            <a:solidFill>
              <a:srgbClr val="66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-2880" y="90360"/>
            <a:ext cx="505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ffffcc"/>
                </a:solidFill>
                <a:uFillTx/>
                <a:latin typeface="Times New Roman"/>
              </a:rPr>
              <a:t>Two main physics strategi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79280" y="765000"/>
            <a:ext cx="8964720" cy="2654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 the high neutrino rate (&gt;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20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10-50 GeV) of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Neutrino Factory</a:t>
            </a:r>
            <a:r>
              <a:rPr b="0" lang="en-GB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LMD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1600" spc="-1" strike="noStrike">
                <a:solidFill>
                  <a:srgbClr val="ff0000"/>
                </a:solidFill>
                <a:latin typeface="Times New Roman"/>
              </a:rPr>
              <a:t>(“SuperMinos”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detector of large but not huge mass (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50-100 Kt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ecessarily magnet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dense magnetized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Iron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, possibly,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few 10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79280" y="3573360"/>
            <a:ext cx="8964720" cy="37515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use of the lower neutrino rate (10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18-19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/year) and energy (sub-GeV) o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Betabeam + “Megaton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low density detector of very large mass (0.5-1 Mt)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nd volume       (0.5-1 Mm</a:t>
            </a:r>
            <a:r>
              <a:rPr b="0" lang="en-GB" sz="2400" spc="-1" strike="noStrike" baseline="30000">
                <a:solidFill>
                  <a:srgbClr val="ffffff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non magnetic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(a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Water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Cerenkov detector,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                   </a:t>
            </a:r>
            <a:r>
              <a:rPr b="0" lang="en-GB" sz="1800" spc="-1" strike="noStrike">
                <a:solidFill>
                  <a:srgbClr val="ffffff"/>
                </a:solidFill>
                <a:latin typeface="Times New Roman"/>
              </a:rPr>
              <a:t>or possibly, again Li-Argon),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                                      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a few </a:t>
            </a:r>
            <a:r>
              <a:rPr b="1" lang="en-GB" sz="2400" spc="-1" strike="noStrike">
                <a:solidFill>
                  <a:srgbClr val="ffffff"/>
                </a:solidFill>
                <a:latin typeface="Times New Roman"/>
              </a:rPr>
              <a:t>100 Km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away (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except for AGS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166760" y="1936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725040" y="1484280"/>
            <a:ext cx="168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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+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476360" y="1628640"/>
            <a:ext cx="144360" cy="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92360" y="4365720"/>
            <a:ext cx="9583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</a:t>
            </a:r>
            <a:r>
              <a:rPr b="1" lang="it-IT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it-IT" sz="2400" spc="-1" strike="noStrike">
                <a:solidFill>
                  <a:srgbClr val="ff0000"/>
                </a:solidFill>
                <a:latin typeface="Symbol"/>
                <a:ea typeface="Symbol"/>
              </a:rPr>
              <a:t></a:t>
            </a:r>
            <a:r>
              <a:rPr b="0" lang="it-IT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Times New Roman"/>
              </a:rPr>
              <a:t>ν</a:t>
            </a:r>
            <a:r>
              <a:rPr b="1" lang="it-IT" sz="24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6920" y="2728800"/>
            <a:ext cx="131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ufact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27600" y="5851440"/>
            <a:ext cx="114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3333cc"/>
                </a:solidFill>
                <a:latin typeface="Times New Roman"/>
              </a:rPr>
              <a:t>NNN05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17520" y="38160"/>
            <a:ext cx="15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cc"/>
                </a:solidFill>
                <a:latin typeface="Arial"/>
              </a:rPr>
              <a:t>Palladino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124080" y="6400800"/>
            <a:ext cx="3392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cc"/>
                </a:solidFill>
                <a:latin typeface="Times New Roman"/>
              </a:rPr>
              <a:t>V. Palladino:Super Conventional Beams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7960" y="3137760"/>
            <a:ext cx="9055080" cy="5814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005e46"/>
              </a:gs>
              <a:gs pos="100000">
                <a:srgbClr val="00cc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R&amp;D into machine (MERIT, MICE, …) essenti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C5D8F282-5CFA-48D1-8AE9-1690D46E51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0" y="-2520"/>
            <a:ext cx="9144000" cy="764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The most challenging task: 1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660360" y="1908000"/>
            <a:ext cx="246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Incrementa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34920" y="771480"/>
            <a:ext cx="6624720" cy="6086520"/>
          </a:xfrm>
          <a:prstGeom prst="rect">
            <a:avLst/>
          </a:prstGeom>
          <a:ln w="0">
            <a:noFill/>
          </a:ln>
        </p:spPr>
      </p:pic>
      <p:grpSp>
        <p:nvGrpSpPr>
          <p:cNvPr id="289" name=""/>
          <p:cNvGrpSpPr/>
          <p:nvPr/>
        </p:nvGrpSpPr>
        <p:grpSpPr>
          <a:xfrm>
            <a:off x="3884760" y="1176480"/>
            <a:ext cx="2417760" cy="2950920"/>
            <a:chOff x="3884760" y="1176480"/>
            <a:chExt cx="2417760" cy="2950920"/>
          </a:xfrm>
        </p:grpSpPr>
        <p:sp>
          <p:nvSpPr>
            <p:cNvPr id="290" name=""/>
            <p:cNvSpPr/>
            <p:nvPr/>
          </p:nvSpPr>
          <p:spPr>
            <a:xfrm>
              <a:off x="3884760" y="1176480"/>
              <a:ext cx="2417760" cy="580680"/>
            </a:xfrm>
            <a:prstGeom prst="rect">
              <a:avLst/>
            </a:prstGeom>
            <a:solidFill>
              <a:srgbClr val="ffffff"/>
            </a:solidFill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Era of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66"/>
                  </a:solidFill>
                  <a:latin typeface="Arial"/>
                </a:rPr>
                <a:t>sensitivity &amp; precision</a:t>
              </a:r>
              <a:endParaRPr b="0" lang="en-US" sz="1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362920" y="1811520"/>
              <a:ext cx="0" cy="2315880"/>
            </a:xfrm>
            <a:prstGeom prst="line">
              <a:avLst/>
            </a:prstGeom>
            <a:ln w="38160">
              <a:solidFill>
                <a:srgbClr val="00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725480" y="762120"/>
            <a:ext cx="7418520" cy="6095880"/>
            <a:chOff x="1725480" y="762120"/>
            <a:chExt cx="7418520" cy="6095880"/>
          </a:xfrm>
        </p:grpSpPr>
        <p:grpSp>
          <p:nvGrpSpPr>
            <p:cNvPr id="293" name=""/>
            <p:cNvGrpSpPr/>
            <p:nvPr/>
          </p:nvGrpSpPr>
          <p:grpSpPr>
            <a:xfrm>
              <a:off x="2700360" y="762120"/>
              <a:ext cx="6443640" cy="6095880"/>
              <a:chOff x="2700360" y="762120"/>
              <a:chExt cx="6443640" cy="6095880"/>
            </a:xfrm>
          </p:grpSpPr>
          <p:grpSp>
            <p:nvGrpSpPr>
              <p:cNvPr id="294" name=""/>
              <p:cNvGrpSpPr/>
              <p:nvPr/>
            </p:nvGrpSpPr>
            <p:grpSpPr>
              <a:xfrm>
                <a:off x="2700360" y="765000"/>
                <a:ext cx="6443640" cy="6093000"/>
                <a:chOff x="2700360" y="765000"/>
                <a:chExt cx="6443640" cy="609300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3492360" y="765000"/>
                  <a:ext cx="5651640" cy="609300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cc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96" name=""/>
                <p:cNvGrpSpPr/>
                <p:nvPr/>
              </p:nvGrpSpPr>
              <p:grpSpPr>
                <a:xfrm>
                  <a:off x="2700360" y="771480"/>
                  <a:ext cx="1800360" cy="6086520"/>
                  <a:chOff x="2700360" y="771480"/>
                  <a:chExt cx="1800360" cy="6086520"/>
                </a:xfrm>
              </p:grpSpPr>
              <p:grpSp>
                <p:nvGrpSpPr>
                  <p:cNvPr id="297" name=""/>
                  <p:cNvGrpSpPr/>
                  <p:nvPr/>
                </p:nvGrpSpPr>
                <p:grpSpPr>
                  <a:xfrm>
                    <a:off x="2700360" y="771480"/>
                    <a:ext cx="1800360" cy="6086520"/>
                    <a:chOff x="2700360" y="771480"/>
                    <a:chExt cx="1800360" cy="6086520"/>
                  </a:xfrm>
                </p:grpSpPr>
                <p:pic>
                  <p:nvPicPr>
                    <p:cNvPr id="298" name="" descr=""/>
                    <p:cNvPicPr/>
                    <p:nvPr/>
                  </p:nvPicPr>
                  <p:blipFill>
                    <a:blip r:embed="rId2"/>
                    <a:srcRect l="78267" t="0" r="0" b="0"/>
                    <a:stretch/>
                  </p:blipFill>
                  <p:spPr>
                    <a:xfrm>
                      <a:off x="3060720" y="771480"/>
                      <a:ext cx="1440000" cy="6086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  <p:pic>
                  <p:nvPicPr>
                    <p:cNvPr id="299" name="" descr=""/>
                    <p:cNvPicPr/>
                    <p:nvPr/>
                  </p:nvPicPr>
                  <p:blipFill>
                    <a:blip r:embed="rId3"/>
                    <a:srcRect l="41314" t="85081" r="33693" b="0"/>
                    <a:stretch/>
                  </p:blipFill>
                  <p:spPr>
                    <a:xfrm>
                      <a:off x="2700360" y="5950080"/>
                      <a:ext cx="1656000" cy="90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grpSp>
              <p:sp>
                <p:nvSpPr>
                  <p:cNvPr id="300" name=""/>
                  <p:cNvSpPr/>
                  <p:nvPr/>
                </p:nvSpPr>
                <p:spPr>
                  <a:xfrm>
                    <a:off x="3059280" y="2924280"/>
                    <a:ext cx="72720" cy="1296720"/>
                  </a:xfrm>
                  <a:prstGeom prst="rect">
                    <a:avLst/>
                  </a:pr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ffffcc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01" name=""/>
              <p:cNvSpPr/>
              <p:nvPr/>
            </p:nvSpPr>
            <p:spPr>
              <a:xfrm>
                <a:off x="4572000" y="762120"/>
                <a:ext cx="4572000" cy="6095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Optimum schedule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Science driven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Potential match to funding window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marL="343080" indent="-343080">
                  <a:lnSpc>
                    <a:spcPct val="100000"/>
                  </a:lnSpc>
                  <a:spcBef>
                    <a:spcPts val="799"/>
                  </a:spcBef>
                  <a:buClr>
                    <a:srgbClr val="ccff33"/>
                  </a:buClr>
                  <a:buSzPct val="70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99"/>
                    </a:solidFill>
                    <a:latin typeface="Arial"/>
                  </a:rPr>
                  <a:t>Challenge:</a:t>
                </a:r>
                <a:endParaRPr b="0" lang="en-US" sz="32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lvl="1" marL="743040" indent="-285840">
                  <a:lnSpc>
                    <a:spcPct val="100000"/>
                  </a:lnSpc>
                  <a:spcBef>
                    <a:spcPts val="700"/>
                  </a:spcBef>
                  <a:buClr>
                    <a:srgbClr val="cc9900"/>
                  </a:buClr>
                  <a:buSzPct val="65000"/>
                  <a:buFont typeface="Wingdings" charset="2"/>
                  <a:buChar char="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cc"/>
                    </a:solidFill>
                    <a:latin typeface="Arial"/>
                  </a:rPr>
                  <a:t>To make the case!</a:t>
                </a:r>
                <a:endParaRPr b="0" lang="en-US" sz="28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302" name=""/>
            <p:cNvGrpSpPr/>
            <p:nvPr/>
          </p:nvGrpSpPr>
          <p:grpSpPr>
            <a:xfrm>
              <a:off x="1725480" y="1138320"/>
              <a:ext cx="2417760" cy="2950920"/>
              <a:chOff x="1725480" y="1138320"/>
              <a:chExt cx="2417760" cy="2950920"/>
            </a:xfrm>
          </p:grpSpPr>
          <p:sp>
            <p:nvSpPr>
              <p:cNvPr id="303" name=""/>
              <p:cNvSpPr/>
              <p:nvPr/>
            </p:nvSpPr>
            <p:spPr>
              <a:xfrm>
                <a:off x="1725480" y="1138320"/>
                <a:ext cx="2417760" cy="580680"/>
              </a:xfrm>
              <a:prstGeom prst="rect">
                <a:avLst/>
              </a:prstGeom>
              <a:solidFill>
                <a:srgbClr val="ffffff"/>
              </a:solidFill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Era of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66"/>
                    </a:solidFill>
                    <a:latin typeface="Arial"/>
                  </a:rPr>
                  <a:t>sensitivity &amp; precision</a:t>
                </a:r>
                <a:endParaRPr b="0" lang="en-US" sz="16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203640" y="1773360"/>
                <a:ext cx="0" cy="2315880"/>
              </a:xfrm>
              <a:prstGeom prst="line">
                <a:avLst/>
              </a:prstGeom>
              <a:ln w="38160">
                <a:solidFill>
                  <a:srgbClr val="00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0T13:55:13Z</dcterms:created>
  <dc:creator>long</dc:creator>
  <dc:description/>
  <dc:language>en-US</dc:language>
  <cp:lastModifiedBy>long</cp:lastModifiedBy>
  <dcterms:modified xsi:type="dcterms:W3CDTF">2005-09-24T07:11:09Z</dcterms:modified>
  <cp:revision>31</cp:revision>
  <dc:subject/>
  <dc:title>Introduction to Experimental sub-group</dc:title>
</cp:coreProperties>
</file>